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C8C0-2B40-4AE3-AEFB-846DE83C5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7943-EA31-412C-BAC1-BCB52938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96CA-B720-4F19-89E1-13865544B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B8B9-95E2-4A02-B932-655BA2F60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A9F8-3E4B-43F6-A7A6-168ADA4D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6EC7-E149-49A3-82D8-565C4BD6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EA29-EAE5-4442-B7CD-D98C9ECD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905F-A042-4A38-A472-2907FF14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2C9A-59C0-47B7-8D76-00FF14DC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6818-7BBD-4F33-BE12-58D72257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B9BB-A284-4C1A-82BE-557DE50B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5C26-DD8C-4055-8CCC-4B960898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DC46-3187-41B4-AA0F-EF1602919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Narrow"/>
              </a:rPr>
              <a:t>Prayer after Communion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lessed be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 calls us together.</a:t>
            </a:r>
            <a:r>
              <a:rPr b="0" lang="en-AU" sz="36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Praise to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makes us one peo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lessed be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 has forgiven our s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Praise to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gives hope and freedo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lessed be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se Word is proclaim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Praise to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is revealed as lover</a:t>
            </a: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lessed be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 alone has called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refore we offer all that we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all we shall beco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ccept, O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our sacrifice of prai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ccept our thank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all that we a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ur hands were empt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you filled th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2:58:10Z</dcterms:created>
  <dc:creator>Anon Anon</dc:creator>
  <dc:description/>
  <dc:language>en-US</dc:language>
  <cp:lastModifiedBy>Anon Anon</cp:lastModifiedBy>
  <dcterms:modified xsi:type="dcterms:W3CDTF">2005-08-09T05:07:23Z</dcterms:modified>
  <cp:revision>12</cp:revision>
  <dc:subject/>
  <dc:title>Prayer after Communion (SLD-2)</dc:title>
</cp:coreProperties>
</file>